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B46A-C5FF-4945-9A07-A60B0F157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6546-443D-4E7E-A737-011AC4DB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DA99-7D09-45A9-B5B6-BE4FC756E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E7BA-3D1F-48F5-91FD-E3C960A5F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A7E3-EFB0-4778-83E2-AE9E5193C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BB91-B704-4042-B7A5-79BE1AE1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0C7C-9842-4216-BA72-329462F0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C76F-D00C-44AB-906C-B82E5561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C82D-EC23-4583-8D89-FE65A1A6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39D0-ED43-4ECA-BA67-0785F3D5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F5DA-431A-4739-BD5C-BEDAB54E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4A3C-46A4-4AA6-83C8-6FB5D5EF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5575-5C4F-45F3-A784-3C0DB8DE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266F-DD5D-4285-B412-D6CDEFA5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68D3-854F-4AD6-A826-8AD2EC98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0B55-DB5D-407F-A2B0-CEE59514C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219E-A7E5-4805-B055-D1E3589F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D935-1873-4CE8-BCCB-4F249B51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EE6B-8887-494D-9BD0-CD6A32A6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D8EE-F02A-42C6-AF9B-110ABD96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9FD4-4736-4719-8898-3D49103B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07C4-6995-49A4-82E3-A5DA0545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C56A-384C-42A0-B2F6-7491737C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24AC-A6AF-4A41-8495-A148701D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F93C-3473-4BB2-BC90-DF519ECBED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29C0-2974-46A5-A9BF-AF04A000C5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59280" y="1557000"/>
            <a:ext cx="5760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9ccff"/>
                </a:solidFill>
                <a:latin typeface="Arial"/>
              </a:rPr>
              <a:t>Competen</a:t>
            </a:r>
            <a:r>
              <a:rPr b="0" lang="ro-RO" sz="4600" spc="-1" strike="noStrike">
                <a:solidFill>
                  <a:srgbClr val="99ccff"/>
                </a:solidFill>
                <a:latin typeface="Arial"/>
              </a:rPr>
              <a:t>țe digital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"/>
              </a:rPr>
              <a:t>Bacalaureat 20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32576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ffffff"/>
                </a:solidFill>
                <a:latin typeface="Arial"/>
              </a:rPr>
              <a:t>Domenii de competență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Utilizarea computerului și organizarea fișiere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Editoare de tex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Informație și comuni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oncepte de bază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Editoare de calcul tabe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Baze de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rezentă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8920" y="33300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ucces!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906800" y="2916360"/>
            <a:ext cx="3606840" cy="2347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036800" y="2462040"/>
            <a:ext cx="3205080" cy="35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ffffff"/>
                </a:solidFill>
                <a:latin typeface="Arial"/>
              </a:rPr>
              <a:t>Informații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2420640"/>
            <a:ext cx="792504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Ministerul Educației, Cercetării și Sportul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51280" y="4005360"/>
            <a:ext cx="140976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20:38:49Z</dcterms:created>
  <dc:creator>AS</dc:creator>
  <dc:description/>
  <dc:language>en-US</dc:language>
  <cp:lastModifiedBy>AS</cp:lastModifiedBy>
  <dcterms:modified xsi:type="dcterms:W3CDTF">2010-01-07T20:32:38Z</dcterms:modified>
  <cp:revision>12</cp:revision>
  <dc:subject/>
  <dc:title>Diapozitivul 1</dc:title>
</cp:coreProperties>
</file>